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A9A-FB0E-42AD-9E87-B85C6C5DD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s://technet.microsoft.com/ru-ru/library/ms188783(v=sql.105).aspx" TargetMode="External"/><Relationship Id="rId2" Type="http://schemas.openxmlformats.org/officeDocument/2006/relationships/hyperlink" Target="https://technet.microsoft.com/ru-ru/library/ms188388(v=sql.105).aspx" TargetMode="External"/><Relationship Id="rId3" Type="http://schemas.openxmlformats.org/officeDocument/2006/relationships/hyperlink" Target="https://technet.microsoft.com/ru-ru/library/ms177523(v=sql.105).aspx" TargetMode="External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100" spc="-1" strike="noStrike">
                <a:solidFill>
                  <a:srgbClr val="c0504d"/>
                </a:solidFill>
                <a:latin typeface="Calibri"/>
              </a:rPr>
              <a:t>IGNORE_DUP_KEY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= 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меняется только к операциям вставки, производимым после создания или перестроения индекса. Этот параметр не действует при выполнении инструкций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E INDEX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LTER INDEX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или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UPDATE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Если в уникальный индекс вставляются повторяющиеся значения ключа, выводится предупреждающее сообщение. С ошибкой завершаются только строки, нарушающие ограничение уника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Если в уникальный индекс вставляются повторяющиеся значения ключа, выводится сообщение об ошибке. Будет выполнен откат всей операции INSER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SORT_IN_TEMPDB = 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казывает, следует ли сохранять результаты сортировки в базе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Промежуточные результаты сортировки, которые используются при индексировании, хранятся в базе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может сократить время, требуемое для создания индекса, если база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размещена на иных дисках, нежели пользовательская база данных. Однако это увеличивает использование места на диске, которое используется при индексирован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Промежуточные результаты сортировки хранятся в той же базе данных, где и индек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ыполнение сортировки не требуется или если сортировка может быть выполнена в памяти, параметр SORT_IN_TEMPDB пропускаетс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STATISTICS_NORECOMPUTE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= 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казывает, выполнялся ли перерасчет статистики распределения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 Устаревшие статистики не пересчитываются автоматичес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 Автоматическое обновление статистических данных включе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бы восстановить автоматическое обновление статистики, следует установить STATISTICS_NORECOMPUTE в значение OFF или выполнить UPDATE STATISTICS без предложения NORECOMPU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051-1AC7-4E70-B917-D1AFDBE35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B73-9C51-4016-BF38-D98820C7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9FD-84CF-47BE-858C-B3F1E6E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7C9-BAFA-4C12-9004-140AEA43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C19-634F-44F1-926A-42B9126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D0B-99BE-476E-8C5E-51806E0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7A8-0624-4E10-961D-68C442A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DEA-92E6-444B-9C29-870C538B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FF8-9FA2-4E6A-ACB9-11FCAA09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4BA-D423-4DCC-989B-282D3332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9F0-7EB0-4F34-99F6-1946413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763-EDC5-4EC9-B798-9D4B161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CAF-3186-4EEF-B22E-866AC3B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1B0-8517-40B2-88A9-382439013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87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ffc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ексация в 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55680" y="2349360"/>
                <a:ext cx="22032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Text Box 5"/>
          <p:cNvSpPr/>
          <p:nvPr/>
        </p:nvSpPr>
        <p:spPr>
          <a:xfrm>
            <a:off x="900000" y="90792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4630680" y="2349360"/>
                <a:ext cx="3413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den>
                        </m:f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655560" y="3500280"/>
                <a:ext cx="1155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4716360" y="3429000"/>
                <a:ext cx="2097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468360" y="429264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0"/>
              <p:cNvSpPr txBox="1"/>
              <p:nvPr/>
            </p:nvSpPr>
            <p:spPr>
              <a:xfrm>
                <a:off x="4716360" y="4221000"/>
                <a:ext cx="207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11"/>
          <p:cNvSpPr/>
          <p:nvPr/>
        </p:nvSpPr>
        <p:spPr>
          <a:xfrm>
            <a:off x="250920" y="1844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использования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4788000" y="184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спользованием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35600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0" y="5157720"/>
            <a:ext cx="4897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записей в основ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бл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Z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основной  табли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859280" y="5084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в индекс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258920" y="3573360"/>
            <a:ext cx="16556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68360" y="836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471636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572000" y="1268280"/>
            <a:ext cx="4464000" cy="1739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отсортированном порядке по индексному ключу, расположенные в блоках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79280" y="1341360"/>
            <a:ext cx="4321440" cy="916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в бл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82560" y="292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258920" y="393372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395280" y="5013360"/>
            <a:ext cx="831708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м файле методом бинарного поиска по бло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281560" y="1268280"/>
          <a:ext cx="3862440" cy="5505480"/>
        </p:xfrm>
        <a:graphic>
          <a:graphicData uri="http://schemas.openxmlformats.org/drawingml/2006/table">
            <a:tbl>
              <a:tblPr/>
              <a:tblGrid>
                <a:gridCol w="860400"/>
                <a:gridCol w="986040"/>
                <a:gridCol w="865080"/>
                <a:gridCol w="115092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557"/>
          <p:cNvSpPr/>
          <p:nvPr/>
        </p:nvSpPr>
        <p:spPr>
          <a:xfrm>
            <a:off x="5292720" y="9079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58"/>
          <p:cNvSpPr/>
          <p:nvPr/>
        </p:nvSpPr>
        <p:spPr>
          <a:xfrm>
            <a:off x="5075280" y="1557360"/>
            <a:ext cx="73080" cy="1440000"/>
          </a:xfrm>
          <a:custGeom>
            <a:avLst/>
            <a:gdLst>
              <a:gd name="textAreaLeft" fmla="*/ 46800 w 73080"/>
              <a:gd name="textAreaRight" fmla="*/ 73440 w 73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59"/>
          <p:cNvSpPr/>
          <p:nvPr/>
        </p:nvSpPr>
        <p:spPr>
          <a:xfrm>
            <a:off x="4284720" y="2133720"/>
            <a:ext cx="57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0"/>
          <p:cNvSpPr/>
          <p:nvPr/>
        </p:nvSpPr>
        <p:spPr>
          <a:xfrm>
            <a:off x="5075280" y="3068640"/>
            <a:ext cx="114120" cy="1512720"/>
          </a:xfrm>
          <a:custGeom>
            <a:avLst/>
            <a:gdLst>
              <a:gd name="textAreaLeft" fmla="*/ 73080 w 114120"/>
              <a:gd name="textAreaRight" fmla="*/ 114480 w 1141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1"/>
          <p:cNvSpPr/>
          <p:nvPr/>
        </p:nvSpPr>
        <p:spPr>
          <a:xfrm>
            <a:off x="4211640" y="3716280"/>
            <a:ext cx="700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62"/>
          <p:cNvSpPr/>
          <p:nvPr/>
        </p:nvSpPr>
        <p:spPr>
          <a:xfrm>
            <a:off x="4284720" y="5229360"/>
            <a:ext cx="5587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63"/>
          <p:cNvSpPr/>
          <p:nvPr/>
        </p:nvSpPr>
        <p:spPr>
          <a:xfrm>
            <a:off x="5146560" y="4724280"/>
            <a:ext cx="69840" cy="1406520"/>
          </a:xfrm>
          <a:custGeom>
            <a:avLst/>
            <a:gdLst>
              <a:gd name="textAreaLeft" fmla="*/ 44640 w 69840"/>
              <a:gd name="textAreaRight" fmla="*/ 69840 w 69840"/>
              <a:gd name="textAreaTop" fmla="*/ 36360 h 1406520"/>
              <a:gd name="textAreaBottom" fmla="*/ 13701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74"/>
          <p:cNvSpPr/>
          <p:nvPr/>
        </p:nvSpPr>
        <p:spPr>
          <a:xfrm>
            <a:off x="3624120" y="4752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77"/>
          <p:cNvSpPr/>
          <p:nvPr/>
        </p:nvSpPr>
        <p:spPr>
          <a:xfrm>
            <a:off x="3624120" y="4752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80"/>
          <p:cNvSpPr/>
          <p:nvPr/>
        </p:nvSpPr>
        <p:spPr>
          <a:xfrm>
            <a:off x="3624120" y="4752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8"/>
          <p:cNvSpPr/>
          <p:nvPr/>
        </p:nvSpPr>
        <p:spPr>
          <a:xfrm>
            <a:off x="3624120" y="4752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92360" y="1773360"/>
          <a:ext cx="1942920" cy="4363920"/>
        </p:xfrm>
        <a:graphic>
          <a:graphicData uri="http://schemas.openxmlformats.org/drawingml/2006/table">
            <a:tbl>
              <a:tblPr/>
              <a:tblGrid>
                <a:gridCol w="1008000"/>
                <a:gridCol w="934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AutoShape 776"/>
          <p:cNvSpPr/>
          <p:nvPr/>
        </p:nvSpPr>
        <p:spPr>
          <a:xfrm>
            <a:off x="1547640" y="2276640"/>
            <a:ext cx="71640" cy="151272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77"/>
          <p:cNvSpPr/>
          <p:nvPr/>
        </p:nvSpPr>
        <p:spPr>
          <a:xfrm>
            <a:off x="611280" y="285264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78"/>
          <p:cNvSpPr/>
          <p:nvPr/>
        </p:nvSpPr>
        <p:spPr>
          <a:xfrm>
            <a:off x="1547640" y="3933720"/>
            <a:ext cx="114480" cy="1513080"/>
          </a:xfrm>
          <a:custGeom>
            <a:avLst/>
            <a:gdLst>
              <a:gd name="textAreaLeft" fmla="*/ 73080 w 114480"/>
              <a:gd name="textAreaRight" fmla="*/ 114840 w 1144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79"/>
          <p:cNvSpPr/>
          <p:nvPr/>
        </p:nvSpPr>
        <p:spPr>
          <a:xfrm>
            <a:off x="684360" y="4508640"/>
            <a:ext cx="699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81"/>
          <p:cNvSpPr/>
          <p:nvPr/>
        </p:nvSpPr>
        <p:spPr>
          <a:xfrm>
            <a:off x="1332000" y="119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86"/>
          <p:cNvSpPr/>
          <p:nvPr/>
        </p:nvSpPr>
        <p:spPr>
          <a:xfrm flipV="1">
            <a:off x="3492360" y="1557360"/>
            <a:ext cx="1656000" cy="7905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87"/>
          <p:cNvSpPr/>
          <p:nvPr/>
        </p:nvSpPr>
        <p:spPr>
          <a:xfrm>
            <a:off x="3492360" y="2637000"/>
            <a:ext cx="1656000" cy="431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124000" y="765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добав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154764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1908000" y="623736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3059280" y="39337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3060720" y="602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4716360" y="1773360"/>
                <a:ext cx="233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Line 11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1692360" y="544500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4775040" y="2492280"/>
                <a:ext cx="1290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4788000" y="544500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AutoShape 18"/>
          <p:cNvSpPr/>
          <p:nvPr/>
        </p:nvSpPr>
        <p:spPr>
          <a:xfrm>
            <a:off x="1547640" y="2492280"/>
            <a:ext cx="2953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2994120" y="2359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1547640" y="3141720"/>
            <a:ext cx="3022920" cy="792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авление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е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1811160" y="4057560"/>
            <a:ext cx="2521080" cy="936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27672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43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4"/>
          <p:cNvSpPr/>
          <p:nvPr/>
        </p:nvSpPr>
        <p:spPr>
          <a:xfrm>
            <a:off x="4500720" y="4724280"/>
            <a:ext cx="3095640" cy="5763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троение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3084480" y="4986360"/>
            <a:ext cx="468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26"/>
          <p:cNvCxnSpPr>
            <a:stCxn id="267" idx="3"/>
            <a:endCxn id="270" idx="0"/>
          </p:cNvCxnSpPr>
          <p:nvPr/>
        </p:nvCxnSpPr>
        <p:spPr>
          <a:xfrm>
            <a:off x="4331880" y="4525560"/>
            <a:ext cx="1716840" cy="199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3" name="AutoShape 27"/>
          <p:cNvCxnSpPr>
            <a:stCxn id="270" idx="2"/>
            <a:endCxn id="257" idx="0"/>
          </p:cNvCxnSpPr>
          <p:nvPr/>
        </p:nvCxnSpPr>
        <p:spPr>
          <a:xfrm rot="5400000">
            <a:off x="4197960" y="4162320"/>
            <a:ext cx="712080" cy="2988360"/>
          </a:xfrm>
          <a:prstGeom prst="bentConnector3">
            <a:avLst>
              <a:gd name="adj1" fmla="val 115174"/>
            </a:avLst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7686720" y="4711680"/>
                <a:ext cx="1398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ерест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195640" y="692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уда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154764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835280" y="486900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3059280" y="39337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987640" y="4653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4716360" y="1773360"/>
                <a:ext cx="233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0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619280" y="407664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4775040" y="2492280"/>
                <a:ext cx="1290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4714920" y="4076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5"/>
          <p:cNvSpPr/>
          <p:nvPr/>
        </p:nvSpPr>
        <p:spPr>
          <a:xfrm>
            <a:off x="1547640" y="2492280"/>
            <a:ext cx="2953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2994120" y="2359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1547640" y="3141720"/>
            <a:ext cx="3022920" cy="792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е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900000" y="76500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4152960" y="2276640"/>
                <a:ext cx="4003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LZ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211640" y="3357720"/>
                <a:ext cx="2097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4238640" y="414972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12"/>
          <p:cNvSpPr/>
          <p:nvPr/>
        </p:nvSpPr>
        <p:spPr>
          <a:xfrm>
            <a:off x="320364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0" y="5157720"/>
            <a:ext cx="489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записей в основ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бл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Z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основной табли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859280" y="5084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в индекс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 Б-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7280" y="1628640"/>
          <a:ext cx="560520" cy="4754520"/>
        </p:xfrm>
        <a:graphic>
          <a:graphicData uri="http://schemas.openxmlformats.org/drawingml/2006/table">
            <a:tbl>
              <a:tblPr/>
              <a:tblGrid>
                <a:gridCol w="56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651640" y="1628640"/>
          <a:ext cx="560160" cy="2925720"/>
        </p:xfrm>
        <a:graphic>
          <a:graphicData uri="http://schemas.openxmlformats.org/drawingml/2006/table">
            <a:tbl>
              <a:tblPr/>
              <a:tblGrid>
                <a:gridCol w="56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067280" y="1628640"/>
          <a:ext cx="560160" cy="1096920"/>
        </p:xfrm>
        <a:graphic>
          <a:graphicData uri="http://schemas.openxmlformats.org/drawingml/2006/table">
            <a:tbl>
              <a:tblPr/>
              <a:tblGrid>
                <a:gridCol w="56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627280" y="1628640"/>
          <a:ext cx="560520" cy="365400"/>
        </p:xfrm>
        <a:graphic>
          <a:graphicData uri="http://schemas.openxmlformats.org/drawingml/2006/table">
            <a:tbl>
              <a:tblPr/>
              <a:tblGrid>
                <a:gridCol w="56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71640" y="3284640"/>
          <a:ext cx="1942920" cy="2084400"/>
        </p:xfrm>
        <a:graphic>
          <a:graphicData uri="http://schemas.openxmlformats.org/drawingml/2006/table">
            <a:tbl>
              <a:tblPr/>
              <a:tblGrid>
                <a:gridCol w="1008000"/>
                <a:gridCol w="934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05" name="Oval 259"/>
          <p:cNvSpPr/>
          <p:nvPr/>
        </p:nvSpPr>
        <p:spPr>
          <a:xfrm>
            <a:off x="5508720" y="1484280"/>
            <a:ext cx="863640" cy="574560"/>
          </a:xfrm>
          <a:prstGeom prst="ellipse">
            <a:avLst/>
          </a:prstGeom>
          <a:noFill/>
          <a:ln w="2232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0"/>
          <p:cNvSpPr/>
          <p:nvPr/>
        </p:nvSpPr>
        <p:spPr>
          <a:xfrm>
            <a:off x="324000" y="3141720"/>
            <a:ext cx="3240000" cy="2448000"/>
          </a:xfrm>
          <a:prstGeom prst="ellipse">
            <a:avLst/>
          </a:prstGeom>
          <a:noFill/>
          <a:ln w="2232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1"/>
          <p:cNvSpPr/>
          <p:nvPr/>
        </p:nvSpPr>
        <p:spPr>
          <a:xfrm flipV="1">
            <a:off x="6156360" y="1628640"/>
            <a:ext cx="1152360" cy="698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2"/>
          <p:cNvSpPr/>
          <p:nvPr/>
        </p:nvSpPr>
        <p:spPr>
          <a:xfrm>
            <a:off x="6156360" y="1770120"/>
            <a:ext cx="1152360" cy="2188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63"/>
          <p:cNvSpPr/>
          <p:nvPr/>
        </p:nvSpPr>
        <p:spPr>
          <a:xfrm>
            <a:off x="6156360" y="1844640"/>
            <a:ext cx="1152360" cy="504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64"/>
          <p:cNvSpPr/>
          <p:nvPr/>
        </p:nvSpPr>
        <p:spPr>
          <a:xfrm>
            <a:off x="6227640" y="3213000"/>
            <a:ext cx="1081080" cy="647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5"/>
          <p:cNvSpPr/>
          <p:nvPr/>
        </p:nvSpPr>
        <p:spPr>
          <a:xfrm>
            <a:off x="6156360" y="4292640"/>
            <a:ext cx="1152360" cy="1728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66"/>
          <p:cNvSpPr/>
          <p:nvPr/>
        </p:nvSpPr>
        <p:spPr>
          <a:xfrm>
            <a:off x="4572000" y="170028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67"/>
          <p:cNvSpPr/>
          <p:nvPr/>
        </p:nvSpPr>
        <p:spPr>
          <a:xfrm>
            <a:off x="4572000" y="1773360"/>
            <a:ext cx="1079640" cy="287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8"/>
          <p:cNvSpPr/>
          <p:nvPr/>
        </p:nvSpPr>
        <p:spPr>
          <a:xfrm>
            <a:off x="4572000" y="2421000"/>
            <a:ext cx="1079640" cy="1439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69"/>
          <p:cNvSpPr/>
          <p:nvPr/>
        </p:nvSpPr>
        <p:spPr>
          <a:xfrm flipV="1">
            <a:off x="3132000" y="1628280"/>
            <a:ext cx="935280" cy="71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70"/>
          <p:cNvSpPr/>
          <p:nvPr/>
        </p:nvSpPr>
        <p:spPr>
          <a:xfrm>
            <a:off x="3132000" y="1773360"/>
            <a:ext cx="935280" cy="287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71"/>
          <p:cNvSpPr/>
          <p:nvPr/>
        </p:nvSpPr>
        <p:spPr>
          <a:xfrm>
            <a:off x="3132000" y="1844640"/>
            <a:ext cx="93528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72"/>
          <p:cNvSpPr/>
          <p:nvPr/>
        </p:nvSpPr>
        <p:spPr>
          <a:xfrm>
            <a:off x="4572000" y="2492280"/>
            <a:ext cx="1079640" cy="1800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73"/>
          <p:cNvSpPr/>
          <p:nvPr/>
        </p:nvSpPr>
        <p:spPr>
          <a:xfrm>
            <a:off x="6156360" y="4221000"/>
            <a:ext cx="1152360" cy="15130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AutoShape 274"/>
          <p:cNvCxnSpPr>
            <a:stCxn id="305" idx="4"/>
            <a:endCxn id="306" idx="6"/>
          </p:cNvCxnSpPr>
          <p:nvPr/>
        </p:nvCxnSpPr>
        <p:spPr>
          <a:xfrm rot="5400000">
            <a:off x="3609360" y="2034720"/>
            <a:ext cx="2296080" cy="23659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321" name="Text Box 275"/>
          <p:cNvSpPr/>
          <p:nvPr/>
        </p:nvSpPr>
        <p:spPr>
          <a:xfrm>
            <a:off x="702000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6"/>
          <p:cNvSpPr/>
          <p:nvPr/>
        </p:nvSpPr>
        <p:spPr>
          <a:xfrm>
            <a:off x="521964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77"/>
          <p:cNvSpPr/>
          <p:nvPr/>
        </p:nvSpPr>
        <p:spPr>
          <a:xfrm>
            <a:off x="378000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8"/>
          <p:cNvSpPr/>
          <p:nvPr/>
        </p:nvSpPr>
        <p:spPr>
          <a:xfrm>
            <a:off x="212400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9"/>
          <p:cNvSpPr/>
          <p:nvPr/>
        </p:nvSpPr>
        <p:spPr>
          <a:xfrm>
            <a:off x="7093080" y="6381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00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0"/>
          <p:cNvSpPr/>
          <p:nvPr/>
        </p:nvSpPr>
        <p:spPr>
          <a:xfrm>
            <a:off x="507672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00/73 = 172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1"/>
          <p:cNvSpPr/>
          <p:nvPr/>
        </p:nvSpPr>
        <p:spPr>
          <a:xfrm>
            <a:off x="3851280" y="28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2/73 = 3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2"/>
          <p:cNvSpPr/>
          <p:nvPr/>
        </p:nvSpPr>
        <p:spPr>
          <a:xfrm>
            <a:off x="248436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3"/>
          <p:cNvSpPr/>
          <p:nvPr/>
        </p:nvSpPr>
        <p:spPr>
          <a:xfrm>
            <a:off x="7956720" y="5661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000 за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84"/>
          <p:cNvSpPr/>
          <p:nvPr/>
        </p:nvSpPr>
        <p:spPr>
          <a:xfrm>
            <a:off x="4572000" y="1844640"/>
            <a:ext cx="107964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5"/>
          <p:cNvSpPr/>
          <p:nvPr/>
        </p:nvSpPr>
        <p:spPr>
          <a:xfrm>
            <a:off x="6156360" y="1916280"/>
            <a:ext cx="1152360" cy="93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86"/>
          <p:cNvSpPr/>
          <p:nvPr/>
        </p:nvSpPr>
        <p:spPr>
          <a:xfrm>
            <a:off x="971640" y="58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о уровня тип индекса – неплотный 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0"/>
          <p:cNvGrpSpPr/>
          <p:nvPr/>
        </p:nvGrpSpPr>
        <p:grpSpPr>
          <a:xfrm>
            <a:off x="250920" y="1628640"/>
            <a:ext cx="2160360" cy="1089000"/>
            <a:chOff x="250920" y="1628640"/>
            <a:chExt cx="2160360" cy="1089000"/>
          </a:xfrm>
        </p:grpSpPr>
        <mc:AlternateContent>
          <mc:Choice xmlns:a14="http://schemas.microsoft.com/office/drawing/2010/main" Requires="a14">
            <p:sp>
              <p:nvSpPr>
                <p:cNvPr id="334" name="Object 287"/>
                <p:cNvSpPr txBox="1"/>
                <p:nvPr/>
              </p:nvSpPr>
              <p:spPr>
                <a:xfrm>
                  <a:off x="250920" y="1628640"/>
                  <a:ext cx="21445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I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Text Box 289"/>
            <p:cNvSpPr/>
            <p:nvPr/>
          </p:nvSpPr>
          <p:spPr>
            <a:xfrm>
              <a:off x="250920" y="2349360"/>
              <a:ext cx="216036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 Б-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900000" y="90792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067280" y="1989000"/>
                <a:ext cx="171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4065480" y="3141720"/>
                <a:ext cx="209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067280" y="400536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Line 7"/>
          <p:cNvSpPr/>
          <p:nvPr/>
        </p:nvSpPr>
        <p:spPr>
          <a:xfrm>
            <a:off x="320364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419640" y="4941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уровней инд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вертируемые спи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611280" y="4005360"/>
            <a:ext cx="16556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179280" y="765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6012000" y="83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6156360" y="1268280"/>
            <a:ext cx="2987640" cy="1882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произво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0" y="1413000"/>
            <a:ext cx="3168720" cy="2014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в блоках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0" y="35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611280" y="4365720"/>
            <a:ext cx="165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индексном файле 2-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324000" y="5516640"/>
            <a:ext cx="882000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й таблице (файле )1-го уровня методом бинарного поиска по блокам, с дальнейшим переходом к цепочке записей, расположенных в индексной таблице (файле) 2-го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3348000" y="76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419640" y="1341360"/>
            <a:ext cx="2447640" cy="173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цепочку номеров записей в отсортированном порядке, расположенных в бл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780000" y="407844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вертируемые спи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281560" y="1390680"/>
          <a:ext cx="3862440" cy="5505480"/>
        </p:xfrm>
        <a:graphic>
          <a:graphicData uri="http://schemas.openxmlformats.org/drawingml/2006/table">
            <a:tbl>
              <a:tblPr/>
              <a:tblGrid>
                <a:gridCol w="860400"/>
                <a:gridCol w="986040"/>
                <a:gridCol w="865080"/>
                <a:gridCol w="115092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116"/>
          <p:cNvSpPr/>
          <p:nvPr/>
        </p:nvSpPr>
        <p:spPr>
          <a:xfrm>
            <a:off x="5364000" y="836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859280" y="1390680"/>
          <a:ext cx="428760" cy="5505480"/>
        </p:xfrm>
        <a:graphic>
          <a:graphicData uri="http://schemas.openxmlformats.org/drawingml/2006/table">
            <a:tbl>
              <a:tblPr/>
              <a:tblGrid>
                <a:gridCol w="428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492360" y="1413000"/>
          <a:ext cx="936720" cy="513864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337"/>
          <p:cNvSpPr/>
          <p:nvPr/>
        </p:nvSpPr>
        <p:spPr>
          <a:xfrm>
            <a:off x="4251240" y="-1306440"/>
            <a:ext cx="66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49"/>
          <p:cNvSpPr/>
          <p:nvPr/>
        </p:nvSpPr>
        <p:spPr>
          <a:xfrm>
            <a:off x="4251240" y="-1306440"/>
            <a:ext cx="6620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26920" y="1413000"/>
          <a:ext cx="1584360" cy="5146560"/>
        </p:xfrm>
        <a:graphic>
          <a:graphicData uri="http://schemas.openxmlformats.org/drawingml/2006/table">
            <a:tbl>
              <a:tblPr/>
              <a:tblGrid>
                <a:gridCol w="733680"/>
                <a:gridCol w="85068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6" name="Rectangle 681"/>
          <p:cNvSpPr/>
          <p:nvPr/>
        </p:nvSpPr>
        <p:spPr>
          <a:xfrm>
            <a:off x="4716360" y="1125360"/>
            <a:ext cx="719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.з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89"/>
          <p:cNvSpPr/>
          <p:nvPr/>
        </p:nvSpPr>
        <p:spPr>
          <a:xfrm>
            <a:off x="3348000" y="184464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90"/>
          <p:cNvSpPr/>
          <p:nvPr/>
        </p:nvSpPr>
        <p:spPr>
          <a:xfrm>
            <a:off x="2771640" y="213372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91"/>
          <p:cNvSpPr/>
          <p:nvPr/>
        </p:nvSpPr>
        <p:spPr>
          <a:xfrm>
            <a:off x="3348000" y="278136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92"/>
          <p:cNvSpPr/>
          <p:nvPr/>
        </p:nvSpPr>
        <p:spPr>
          <a:xfrm>
            <a:off x="3348000" y="37162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93"/>
          <p:cNvSpPr/>
          <p:nvPr/>
        </p:nvSpPr>
        <p:spPr>
          <a:xfrm>
            <a:off x="3348000" y="465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94"/>
          <p:cNvSpPr/>
          <p:nvPr/>
        </p:nvSpPr>
        <p:spPr>
          <a:xfrm>
            <a:off x="3348000" y="558972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95"/>
          <p:cNvSpPr/>
          <p:nvPr/>
        </p:nvSpPr>
        <p:spPr>
          <a:xfrm>
            <a:off x="2771640" y="306864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96"/>
          <p:cNvSpPr/>
          <p:nvPr/>
        </p:nvSpPr>
        <p:spPr>
          <a:xfrm>
            <a:off x="2771640" y="400536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97"/>
          <p:cNvSpPr/>
          <p:nvPr/>
        </p:nvSpPr>
        <p:spPr>
          <a:xfrm>
            <a:off x="2771640" y="486900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98"/>
          <p:cNvSpPr/>
          <p:nvPr/>
        </p:nvSpPr>
        <p:spPr>
          <a:xfrm>
            <a:off x="2771640" y="587700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99"/>
          <p:cNvSpPr/>
          <p:nvPr/>
        </p:nvSpPr>
        <p:spPr>
          <a:xfrm>
            <a:off x="0" y="7650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00"/>
          <p:cNvSpPr/>
          <p:nvPr/>
        </p:nvSpPr>
        <p:spPr>
          <a:xfrm>
            <a:off x="684360" y="1844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01"/>
          <p:cNvSpPr/>
          <p:nvPr/>
        </p:nvSpPr>
        <p:spPr>
          <a:xfrm>
            <a:off x="684360" y="3284640"/>
            <a:ext cx="71280" cy="136836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02"/>
          <p:cNvSpPr/>
          <p:nvPr/>
        </p:nvSpPr>
        <p:spPr>
          <a:xfrm>
            <a:off x="108000" y="234936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03"/>
          <p:cNvSpPr/>
          <p:nvPr/>
        </p:nvSpPr>
        <p:spPr>
          <a:xfrm>
            <a:off x="108000" y="378936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05"/>
          <p:cNvSpPr/>
          <p:nvPr/>
        </p:nvSpPr>
        <p:spPr>
          <a:xfrm>
            <a:off x="2124000" y="220500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06"/>
          <p:cNvSpPr/>
          <p:nvPr/>
        </p:nvSpPr>
        <p:spPr>
          <a:xfrm flipV="1">
            <a:off x="4140360" y="1844640"/>
            <a:ext cx="1079280" cy="1944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07"/>
          <p:cNvSpPr/>
          <p:nvPr/>
        </p:nvSpPr>
        <p:spPr>
          <a:xfrm>
            <a:off x="4140360" y="4005360"/>
            <a:ext cx="1152360" cy="1368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08"/>
          <p:cNvSpPr/>
          <p:nvPr/>
        </p:nvSpPr>
        <p:spPr>
          <a:xfrm>
            <a:off x="2556000" y="76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        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нятие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4360" y="1125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блема в СУБД – это поиск нужных данных за минимальн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5640" y="4797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ндекс – это структура данных для быстрого поиска записей в таблице по значению клю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84360" y="18446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ый поиск может быть выполнен в случае, если  данные отсортиров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84360" y="2924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ировка данных в таблице невозможна, т.к. критериев поиска может быть несколь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11280" y="37162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таблицы с данными создаются специальные таблицы для каждого критерия поиска, которые называются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Н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екомендации по созданию индек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24000" y="76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акторы, определяющие «хороший» ин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4000" y="1341360"/>
            <a:ext cx="828036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исло столбцов в индексе не более 4-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ум 16 столбцов общей суммой не более 900 байт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4000" y="198900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 индекс включаются не часто обновляемые столб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4000" y="242100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индексов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324000" y="378936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использовать поиски с предикато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24000" y="479736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столбцам, входящих в индекс, не выполняются поиски 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324000" y="522936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ного столбцов в инд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24000" y="6237360"/>
            <a:ext cx="828036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ного инд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324000" y="573408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ало записей в индексируемой таб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24000" y="2997360"/>
            <a:ext cx="828036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индексов по столбцам из выра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асто выполняемых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50920" y="422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Факторы, определяющие «плохой» ин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ператор создания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95280" y="1125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УБД всегда создает индекс для первичного ключа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395280" y="162864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Для создания индексов для других полей используется оператор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268360" y="234936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[ UNIQUE ]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таблицы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_столб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[,…]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24000" y="4724280"/>
            <a:ext cx="856908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й СУБД  оператор создания индексов содержит дополнительные предложения специфические для каждой СУБ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0" y="328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. Создать индекс для таблицы ЗАКАЗ по вторичному клю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1547640" y="378936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Заказ_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FK_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Заказ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R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Т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ператор создания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95280" y="1557360"/>
            <a:ext cx="5256360" cy="26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[ UNIDUE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 CLASTERED | NOCLASTERED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таблицы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представл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_столб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[,…]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 &lt; параметры &gt; [ ,..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] ] 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 ON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имя_файла_групп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24000" y="83664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ператор для создания индексов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4221360"/>
            <a:ext cx="38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 параме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gt; - это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{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PAD_INDE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FILLFA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GNORE_DUP_KE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DROP_EXIST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STATISTICS_NORECOMPUTE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SORT_IN_TEMPDB …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4067280" y="1484280"/>
            <a:ext cx="40320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уникального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140360" y="1916280"/>
            <a:ext cx="500364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неплотного или плотного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2852640"/>
            <a:ext cx="40320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озрастанию или убы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132000" y="4149720"/>
            <a:ext cx="56880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ервирование на каждой странице индекса свобод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598920" y="4797360"/>
            <a:ext cx="5545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заполнения свобод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419640" y="5157720"/>
            <a:ext cx="5724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е сервера при появлении дублей 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708360" y="5445000"/>
            <a:ext cx="4969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е сервера при наличии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4067280" y="5805360"/>
            <a:ext cx="1081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635280" y="3789360"/>
            <a:ext cx="504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индекса в файлах ОС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струмент настройки индек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50920" y="907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tabase Engine Tuning Advis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250920" y="4581360"/>
            <a:ext cx="835164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T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одит анализ БД по файлу рабочей нагруз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load file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зволяет определить какие индексы следует поменять или у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0"/>
          <p:cNvSpPr/>
          <p:nvPr/>
        </p:nvSpPr>
        <p:spPr>
          <a:xfrm>
            <a:off x="684360" y="5805360"/>
            <a:ext cx="81356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T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рез значительный интервал времени работы Б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тоды организации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3284640"/>
            <a:ext cx="1657080" cy="18108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ым индексом (некластерный 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но-прямо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87280" y="2440080"/>
            <a:ext cx="3095640" cy="36828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го клю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411280" y="1628640"/>
            <a:ext cx="4896000" cy="3682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организации инд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3203640" y="200808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2440080"/>
            <a:ext cx="3240360" cy="36828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ичного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050920" y="3284640"/>
            <a:ext cx="1873440" cy="20851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лотным индексом (кластерный 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но-последователь-ны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067280" y="3284640"/>
            <a:ext cx="1224000" cy="5706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35640" y="3357720"/>
            <a:ext cx="1836720" cy="69984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ртируемые 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732720" y="200808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H="1">
            <a:off x="1331640" y="2835360"/>
            <a:ext cx="71100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2916360" y="2852640"/>
            <a:ext cx="1440" cy="47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211640" y="2852640"/>
            <a:ext cx="485640" cy="463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6875640" y="2835360"/>
            <a:ext cx="10800" cy="50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948360" y="4149720"/>
            <a:ext cx="1836720" cy="7002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ный к индексу 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7740720" y="2924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77"/>
          <p:cNvSpPr/>
          <p:nvPr/>
        </p:nvSpPr>
        <p:spPr>
          <a:xfrm>
            <a:off x="1258920" y="3573360"/>
            <a:ext cx="16556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83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8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8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9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99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0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17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2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32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57"/>
          <p:cNvSpPr/>
          <p:nvPr/>
        </p:nvSpPr>
        <p:spPr>
          <a:xfrm>
            <a:off x="46836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58"/>
          <p:cNvSpPr/>
          <p:nvPr/>
        </p:nvSpPr>
        <p:spPr>
          <a:xfrm>
            <a:off x="4716360" y="836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59"/>
          <p:cNvSpPr/>
          <p:nvPr/>
        </p:nvSpPr>
        <p:spPr>
          <a:xfrm>
            <a:off x="4572000" y="1341360"/>
            <a:ext cx="410364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произво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60"/>
          <p:cNvSpPr/>
          <p:nvPr/>
        </p:nvSpPr>
        <p:spPr>
          <a:xfrm>
            <a:off x="179280" y="1341360"/>
            <a:ext cx="432144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61"/>
          <p:cNvSpPr/>
          <p:nvPr/>
        </p:nvSpPr>
        <p:spPr>
          <a:xfrm>
            <a:off x="682560" y="292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62"/>
          <p:cNvSpPr/>
          <p:nvPr/>
        </p:nvSpPr>
        <p:spPr>
          <a:xfrm>
            <a:off x="1258920" y="393372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записи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63"/>
          <p:cNvSpPr/>
          <p:nvPr/>
        </p:nvSpPr>
        <p:spPr>
          <a:xfrm>
            <a:off x="755640" y="5013360"/>
            <a:ext cx="799308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й таблице методом бинарного поис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бло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716360" y="1268280"/>
          <a:ext cx="3961080" cy="4572000"/>
        </p:xfrm>
        <a:graphic>
          <a:graphicData uri="http://schemas.openxmlformats.org/drawingml/2006/table">
            <a:tbl>
              <a:tblPr/>
              <a:tblGrid>
                <a:gridCol w="863640"/>
                <a:gridCol w="1036800"/>
                <a:gridCol w="691920"/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85"/>
          <p:cNvSpPr/>
          <p:nvPr/>
        </p:nvSpPr>
        <p:spPr>
          <a:xfrm>
            <a:off x="2519280" y="2060640"/>
            <a:ext cx="2197080" cy="1152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6"/>
          <p:cNvSpPr/>
          <p:nvPr/>
        </p:nvSpPr>
        <p:spPr>
          <a:xfrm flipV="1">
            <a:off x="2592360" y="1700280"/>
            <a:ext cx="2124000" cy="1287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7"/>
          <p:cNvSpPr/>
          <p:nvPr/>
        </p:nvSpPr>
        <p:spPr>
          <a:xfrm>
            <a:off x="719280" y="1916280"/>
            <a:ext cx="215640" cy="143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8"/>
          <p:cNvSpPr/>
          <p:nvPr/>
        </p:nvSpPr>
        <p:spPr>
          <a:xfrm>
            <a:off x="0" y="2492280"/>
            <a:ext cx="647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9"/>
          <p:cNvSpPr/>
          <p:nvPr/>
        </p:nvSpPr>
        <p:spPr>
          <a:xfrm>
            <a:off x="719280" y="3355920"/>
            <a:ext cx="187200" cy="1225440"/>
          </a:xfrm>
          <a:custGeom>
            <a:avLst/>
            <a:gdLst>
              <a:gd name="textAreaLeft" fmla="*/ 119520 w 187200"/>
              <a:gd name="textAreaRight" fmla="*/ 187560 w 1872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0"/>
          <p:cNvSpPr/>
          <p:nvPr/>
        </p:nvSpPr>
        <p:spPr>
          <a:xfrm>
            <a:off x="0" y="3789360"/>
            <a:ext cx="649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1"/>
          <p:cNvSpPr/>
          <p:nvPr/>
        </p:nvSpPr>
        <p:spPr>
          <a:xfrm>
            <a:off x="2592360" y="5611680"/>
            <a:ext cx="2124000" cy="49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2"/>
          <p:cNvSpPr/>
          <p:nvPr/>
        </p:nvSpPr>
        <p:spPr>
          <a:xfrm flipV="1">
            <a:off x="2592360" y="5373720"/>
            <a:ext cx="2124000" cy="5335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3"/>
          <p:cNvSpPr/>
          <p:nvPr/>
        </p:nvSpPr>
        <p:spPr>
          <a:xfrm>
            <a:off x="719280" y="4581360"/>
            <a:ext cx="187200" cy="935280"/>
          </a:xfrm>
          <a:custGeom>
            <a:avLst/>
            <a:gdLst>
              <a:gd name="textAreaLeft" fmla="*/ 119520 w 187200"/>
              <a:gd name="textAreaRight" fmla="*/ 187560 w 1872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4"/>
          <p:cNvSpPr/>
          <p:nvPr/>
        </p:nvSpPr>
        <p:spPr>
          <a:xfrm>
            <a:off x="0" y="4869000"/>
            <a:ext cx="6476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5"/>
          <p:cNvSpPr/>
          <p:nvPr/>
        </p:nvSpPr>
        <p:spPr>
          <a:xfrm>
            <a:off x="719280" y="5516640"/>
            <a:ext cx="187200" cy="720720"/>
          </a:xfrm>
          <a:custGeom>
            <a:avLst/>
            <a:gdLst>
              <a:gd name="textAreaLeft" fmla="*/ 119520 w 187200"/>
              <a:gd name="textAreaRight" fmla="*/ 187560 w 1872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6"/>
          <p:cNvSpPr/>
          <p:nvPr/>
        </p:nvSpPr>
        <p:spPr>
          <a:xfrm>
            <a:off x="0" y="5732640"/>
            <a:ext cx="7192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9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0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2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6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7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34920" y="1413000"/>
          <a:ext cx="1800360" cy="4852800"/>
        </p:xfrm>
        <a:graphic>
          <a:graphicData uri="http://schemas.openxmlformats.org/drawingml/2006/table">
            <a:tbl>
              <a:tblPr/>
              <a:tblGrid>
                <a:gridCol w="898560"/>
                <a:gridCol w="901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пи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71"/>
          <p:cNvSpPr/>
          <p:nvPr/>
        </p:nvSpPr>
        <p:spPr>
          <a:xfrm>
            <a:off x="468360" y="836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2"/>
          <p:cNvSpPr/>
          <p:nvPr/>
        </p:nvSpPr>
        <p:spPr>
          <a:xfrm>
            <a:off x="4716360" y="836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16360" y="1268280"/>
          <a:ext cx="3961080" cy="4572000"/>
        </p:xfrm>
        <a:graphic>
          <a:graphicData uri="http://schemas.openxmlformats.org/drawingml/2006/table">
            <a:tbl>
              <a:tblPr/>
              <a:tblGrid>
                <a:gridCol w="863640"/>
                <a:gridCol w="1036800"/>
                <a:gridCol w="691920"/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87"/>
          <p:cNvSpPr/>
          <p:nvPr/>
        </p:nvSpPr>
        <p:spPr>
          <a:xfrm>
            <a:off x="46836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таб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8"/>
          <p:cNvSpPr/>
          <p:nvPr/>
        </p:nvSpPr>
        <p:spPr>
          <a:xfrm>
            <a:off x="4716360" y="836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5"/>
          <p:cNvSpPr/>
          <p:nvPr/>
        </p:nvSpPr>
        <p:spPr>
          <a:xfrm>
            <a:off x="1187280" y="1773360"/>
            <a:ext cx="71640" cy="1224000"/>
          </a:xfrm>
          <a:custGeom>
            <a:avLst/>
            <a:gdLst>
              <a:gd name="textAreaLeft" fmla="*/ 45720 w 71640"/>
              <a:gd name="textAreaRight" fmla="*/ 72000 w 71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324000" y="220500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3"/>
          <p:cNvSpPr/>
          <p:nvPr/>
        </p:nvSpPr>
        <p:spPr>
          <a:xfrm>
            <a:off x="1187280" y="3068640"/>
            <a:ext cx="114480" cy="1512720"/>
          </a:xfrm>
          <a:custGeom>
            <a:avLst/>
            <a:gdLst>
              <a:gd name="textAreaLeft" fmla="*/ 73080 w 114480"/>
              <a:gd name="textAreaRight" fmla="*/ 114840 w 1144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2"/>
          <p:cNvSpPr/>
          <p:nvPr/>
        </p:nvSpPr>
        <p:spPr>
          <a:xfrm>
            <a:off x="324000" y="3645000"/>
            <a:ext cx="699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1"/>
          <p:cNvSpPr/>
          <p:nvPr/>
        </p:nvSpPr>
        <p:spPr>
          <a:xfrm>
            <a:off x="395280" y="5229360"/>
            <a:ext cx="5587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0"/>
          <p:cNvSpPr/>
          <p:nvPr/>
        </p:nvSpPr>
        <p:spPr>
          <a:xfrm>
            <a:off x="1258920" y="4724280"/>
            <a:ext cx="69840" cy="1406520"/>
          </a:xfrm>
          <a:custGeom>
            <a:avLst/>
            <a:gdLst>
              <a:gd name="textAreaLeft" fmla="*/ 44640 w 69840"/>
              <a:gd name="textAreaRight" fmla="*/ 69840 w 69840"/>
              <a:gd name="textAreaTop" fmla="*/ 36360 h 1406520"/>
              <a:gd name="textAreaBottom" fmla="*/ 13701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6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9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1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4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03280" y="1341360"/>
          <a:ext cx="2089080" cy="5151600"/>
        </p:xfrm>
        <a:graphic>
          <a:graphicData uri="http://schemas.openxmlformats.org/drawingml/2006/table">
            <a:tbl>
              <a:tblPr/>
              <a:tblGrid>
                <a:gridCol w="1152720"/>
                <a:gridCol w="93636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пи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7" name="Line 341"/>
          <p:cNvSpPr/>
          <p:nvPr/>
        </p:nvSpPr>
        <p:spPr>
          <a:xfrm>
            <a:off x="3276720" y="1916280"/>
            <a:ext cx="1439640" cy="22334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2"/>
          <p:cNvSpPr/>
          <p:nvPr/>
        </p:nvSpPr>
        <p:spPr>
          <a:xfrm>
            <a:off x="3203640" y="2195640"/>
            <a:ext cx="1512720" cy="2241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6836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поиск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35280" y="1916280"/>
            <a:ext cx="2376360" cy="1079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1725480" y="3141720"/>
            <a:ext cx="2521080" cy="936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619280" y="4292640"/>
            <a:ext cx="280836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ь но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 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619280" y="5157720"/>
            <a:ext cx="280836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итать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763640" y="141300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1835280" y="602136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987640" y="1773360"/>
            <a:ext cx="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01140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987640" y="4076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987640" y="4941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2987640" y="5805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4859280" y="4365720"/>
            <a:ext cx="2592360" cy="576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18"/>
          <p:cNvCxnSpPr>
            <a:stCxn id="142" idx="3"/>
            <a:endCxn id="152" idx="1"/>
          </p:cNvCxnSpPr>
          <p:nvPr/>
        </p:nvCxnSpPr>
        <p:spPr>
          <a:xfrm>
            <a:off x="4246200" y="3609720"/>
            <a:ext cx="1910520" cy="756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4" name="AutoShape 19"/>
          <p:cNvCxnSpPr>
            <a:stCxn id="152" idx="4"/>
            <a:endCxn id="151" idx="0"/>
          </p:cNvCxnSpPr>
          <p:nvPr/>
        </p:nvCxnSpPr>
        <p:spPr>
          <a:xfrm rot="5400000">
            <a:off x="4144320" y="3784320"/>
            <a:ext cx="855000" cy="3169440"/>
          </a:xfrm>
          <a:prstGeom prst="bentConnector3">
            <a:avLst>
              <a:gd name="adj1" fmla="val 113352"/>
            </a:avLst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5148360" y="2060640"/>
                <a:ext cx="233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6431040" y="5300640"/>
                <a:ext cx="1290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421164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313200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979640" y="620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добав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547640" y="249408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835280" y="465444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987640" y="3718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987640" y="44388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4859280" y="2492280"/>
                <a:ext cx="2338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AutoShape 22"/>
          <p:cNvSpPr/>
          <p:nvPr/>
        </p:nvSpPr>
        <p:spPr>
          <a:xfrm>
            <a:off x="1547640" y="1773360"/>
            <a:ext cx="2880000" cy="576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послед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 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2987640" y="23493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1619280" y="321300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авлени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ексном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2987640" y="30700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8"/>
          <p:cNvSpPr/>
          <p:nvPr/>
        </p:nvSpPr>
        <p:spPr>
          <a:xfrm>
            <a:off x="1619280" y="386244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9"/>
              <p:cNvSpPr txBox="1"/>
              <p:nvPr/>
            </p:nvSpPr>
            <p:spPr>
              <a:xfrm>
                <a:off x="4859280" y="1844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0"/>
              <p:cNvSpPr txBox="1"/>
              <p:nvPr/>
            </p:nvSpPr>
            <p:spPr>
              <a:xfrm>
                <a:off x="4932360" y="393372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195640" y="692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уда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161928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1619280" y="4508640"/>
            <a:ext cx="287964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етить за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удаление в бл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835280" y="595008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2987640" y="1628640"/>
            <a:ext cx="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987640" y="2347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987640" y="573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4892760" y="1844640"/>
                <a:ext cx="2336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5022720" y="3933720"/>
                <a:ext cx="12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AutoShape 14"/>
          <p:cNvSpPr/>
          <p:nvPr/>
        </p:nvSpPr>
        <p:spPr>
          <a:xfrm>
            <a:off x="1619280" y="515772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619280" y="386064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987640" y="5013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987640" y="43657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619280" y="249228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ексном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987640" y="3718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1619280" y="314172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5037120" y="3068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5108400" y="5157720"/>
                <a:ext cx="126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14:30Z</dcterms:created>
  <dc:creator>User1</dc:creator>
  <dc:description/>
  <dc:language>en-US</dc:language>
  <cp:lastModifiedBy>Internet1</cp:lastModifiedBy>
  <dcterms:modified xsi:type="dcterms:W3CDTF">2020-11-05T06:09:56Z</dcterms:modified>
  <cp:revision>90</cp:revision>
  <dc:subject/>
  <dc:title>Индексация в СУБД</dc:title>
</cp:coreProperties>
</file>